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35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4E0B0-6D9D-487E-A776-FA40C3C1887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1160" y="696960"/>
            <a:ext cx="4648320" cy="3486240"/>
          </a:xfrm>
          <a:prstGeom prst="rect">
            <a:avLst/>
          </a:prstGeom>
          <a:ln w="0">
            <a:noFill/>
          </a:ln>
        </p:spPr>
      </p:sp>
      <p:sp>
        <p:nvSpPr>
          <p:cNvPr id="3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8F5A6-73B2-4AC3-AEFC-01747FEED397}"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81160" y="696960"/>
            <a:ext cx="4648320" cy="3486240"/>
          </a:xfrm>
          <a:prstGeom prst="rect">
            <a:avLst/>
          </a:prstGeom>
          <a:ln w="0">
            <a:noFill/>
          </a:ln>
        </p:spPr>
      </p:sp>
      <p:sp>
        <p:nvSpPr>
          <p:cNvPr id="3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06EF6-8297-4963-9F97-B360F3EB7B98}"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9A600-A431-4BEE-AD89-28F46C47F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65C48-482F-47CF-A799-E67D96DA7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72F812-72BF-43E6-B180-8072F02E86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73CF1-B85F-4BBE-9208-0B9A0FCE10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288918-7A60-4D39-BB9B-96105953FD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1A215-0CDF-4375-B2C9-D08F3603CB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09691-C7F1-459B-9CB1-82D2BDE28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354B5D-0EED-47A3-A12A-EB11187D8E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4D539A-010C-4C94-8A26-3C353B8EA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4F0D42-4CF4-4C87-AEE3-6AC8EBA3D8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A0FFB-2FF7-4B16-BB36-EA9F84044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6DF0A-50E5-4DE3-B065-6B8A0B1C7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4AF86-FA4A-4730-8134-255E34F41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1F386-E1F5-4EF3-B73B-69CACCE5A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CFEF2A-0DC1-4E42-AB28-C5F605F478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3888BD-1899-4595-9FAA-5A2B935EEF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065237-16D8-4B36-94AA-F8C9E62FAB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644BD9B-5E45-47C6-BAF7-F4398A9A93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70C4327-2F69-4FF2-8FD7-00298B8DBF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03183CA-CA4A-4900-B0F6-CC5D1D4563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4D2EF5A-0B17-4F1C-B9B9-5CA71AACD1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7FB885E-F7B0-4C5F-9D31-C3881059AA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92DA0-8F50-4547-AA40-C4ADEA6E6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8C6858D-ADB7-4D52-8480-CFD725F734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79BF820-CA76-40FC-A289-62E1AC1987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2180D91-2384-46E7-B83D-0A3CBC7AA6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C3147B9-1ED3-464A-9D98-8D180FB7ED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72401DE-B81C-4FBB-A95E-AD741A124A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7B7F36F-79B2-4AB6-8FF8-88D212CA04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A1585A6-3E2F-49B1-8EC3-CC7178AF74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3B6B20A-8439-4BC9-B8A3-838708A86C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0950C94-E7FC-4910-8858-2FB018EE79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EF51B14-15DF-4A9A-8F30-7D36978AF8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02370-897A-4F8B-8F3B-2F5071041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5B43D2E-24DE-4219-9560-A44ADEA735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12557B4-03ED-4BFA-9105-819E79785B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24EE6A4-7D9F-4B7B-BB38-62EF94C631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C0216B9-901B-4640-9696-0618C8CC4C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717837B-BE1A-401A-972F-F04AA08362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486E9CA-730B-442B-AF9E-9293B49999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576FFCA-1B0B-4633-BDE0-EE22B5636D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1AA25B1-2F07-4A13-A04F-51712370F0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C2D0CFD-AE5C-442F-89FE-A3FDDAA637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82B1F26-E9BF-4A16-8EFF-920D1CDFC8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8E642-CF33-4E37-975F-66001C04D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BEAD156-88BE-4798-A5A1-DCF0104678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332170D-B2B9-4D92-AC0E-98BFC691D7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B9B4943-CA86-44CA-BDA9-62F081A334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9A9B4B8-8707-4D11-B6B3-8B363432BB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8C6EAC1-ECC0-4A03-BF25-1712081C5D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BB3C47E-01D6-46B4-8C31-E8A75BC441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ADFD7DB-2E7E-4D53-8A98-D0E3CB7073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283A9BF-6382-49E2-BC46-5C8C23A807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12111BB-05F5-450B-85C8-CBB4499E32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9BF961F-10E1-4FA5-8B90-4BFAA413EC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32541-DD58-4352-A554-AE19D8132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53C968E-E6AA-4DF9-B00D-C2A9EA626D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244AC1-1FA3-430B-9D8C-97A24A2E29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1260B8-43B2-444E-96BF-956A06C2D9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B0EA9D-C3FD-4979-8B75-2C446FDB0B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118DD4-6A17-45EC-9C7F-514180C56A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551D13-700A-4610-B4A8-DD31C868D2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FCD9CF-EBFE-40CE-B6DD-09D0935BDC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9ED717-45C0-4D0D-ADE7-B927E2D303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61A553-2B35-4263-86DD-11DA7BD72F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EA8C88-1BFB-4510-BC67-5B2F49849F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EA205-1853-47B2-B627-5D29AEA7C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3BD1EF-D600-446B-B9B8-94B48B2E1E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62F7EB-AB86-48C8-977C-56826BDAAC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5B97D7-5491-4D24-997F-23B8E38E41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6D78790-E6D4-4E77-AD86-27B7CC678B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A9BF4FA-E543-41FB-AE08-A1E898F84D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D92BDBF-03DA-41DD-9D49-0D3F730381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2474857-FAC4-44D6-82FE-258A359ADE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52F6261-7DE5-4EFD-9F40-EC5E1E3FF4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EB231BC-49CC-49B3-BC0E-E0E90B69CA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9FE2784-DC33-4BAE-B0AB-A21DCAFF05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CC330-2C5B-419E-BD24-A1C5C09EC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F63C5E6-DC4C-4145-A627-FF3078CAC9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23C5DD1-1E60-4D9B-BF89-8EA65BEEB4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CC35A95-CA68-4A42-B250-218FC3AFC3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2540B26-6C6D-4ED0-9829-AE31D1C54F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BB411F3-1E0F-42E0-9418-4BED9038DA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BB09A1-B39C-4B21-9381-24AA4FE8217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5B5E88-CA2A-4B74-A358-52935596EE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3D80F6-D6F4-4991-882B-262C097677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0753E0-4F89-4C37-AD8E-8325906BB2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330AB6-D03C-4075-8859-81C7EB9317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C59EF-3E58-43F0-BF3E-74F0EB50C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0DDC05-516E-4908-875D-88B7323E10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56A9BA-1C9D-41E3-8787-BB6F4E1F87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5C5ACE-972C-4A11-9412-E6D8B7D01F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749BB5-2634-42D7-92A7-DBB1599D0D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0422D4-174B-4D38-8C23-42B2EED1EE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85A5536-C606-42EC-8621-5E9FE5C02AC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437A59-2292-400E-BFC1-615091E7BB7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02C23-3994-4AF4-8717-14172CB373AF}"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DCE46-FFB9-4D4D-9170-E15EE860BFD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294BE-48D1-4F5E-A4A1-072F6641B908}" type="datetime">
              <a:rPr b="0" lang="en-US" sz="2000" spc="-1" strike="noStrike">
                <a:solidFill>
                  <a:srgbClr val="ffffff"/>
                </a:solidFill>
                <a:latin typeface="Times New Roman"/>
              </a:rPr>
              <a:t>07/31/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4F7AE-FA7C-4061-AAF5-E5AA9B33F1AF}"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44BFB-F703-44B1-810F-44D04DADEDCB}"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8BC27-D63C-4A65-9119-5660D76E3F2F}"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85D37-E8F9-401F-9F1E-2DD6D356B76A}"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4459D-4184-4F10-897C-B0B94B991AE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8A868-B919-405C-95A2-2C6E9FC176BD}"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A9543-53BF-443D-96BE-F37F0C1205F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01A40-ADE6-4D27-B154-56182A892049}"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D5A93-52FC-4DF3-83AB-21A7AE405A9D}"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53085-5B14-479F-92F0-65FC8E285BA4}"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7A4DA-AC29-4511-80FA-883260D1B8D9}"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29C72-DA6E-4701-BBB7-A24B7E7E2D54}"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75CDD-1369-483E-A6E1-198F4EFDBBA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0" y="990720"/>
            <a:ext cx="9144000" cy="4876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AADP UPDATES AND </a:t>
            </a:r>
            <a:br>
              <a:rPr sz="4400"/>
            </a:br>
            <a:r>
              <a:rPr b="0" lang="en-US" sz="4400" spc="-1" strike="noStrike">
                <a:solidFill>
                  <a:srgbClr val="ebddc3"/>
                </a:solidFill>
                <a:latin typeface="Tw Cen MT"/>
              </a:rPr>
              <a:t>CGIAR ALIGNMENT</a:t>
            </a:r>
            <a:br>
              <a:rPr sz="4400"/>
            </a:br>
            <a:br>
              <a:rPr sz="4400"/>
            </a:br>
            <a:br>
              <a:rPr sz="4400"/>
            </a:br>
            <a:r>
              <a:rPr b="0" lang="en-US" sz="2200" spc="-1" strike="noStrike">
                <a:solidFill>
                  <a:srgbClr val="ebddc3"/>
                </a:solidFill>
                <a:latin typeface="Tw Cen MT"/>
              </a:rPr>
              <a:t>SUSTAINABLE INTENSIFICATION OF CEREAL-BASED FARMING SYSTEMS IN THE SUDANO-SAHELIAN ZONE OF WEST AFRICA: PROJECT DESIGN WORKSHOP, TAMALE, GHANA, 9-12 JANUARY 2012</a:t>
            </a:r>
            <a:br>
              <a:rPr sz="2200"/>
            </a:br>
            <a:r>
              <a:rPr b="0" lang="en-US" sz="2200" spc="-1" strike="noStrike">
                <a:solidFill>
                  <a:srgbClr val="ebddc3"/>
                </a:solidFill>
                <a:latin typeface="Tw Cen MT"/>
              </a:rPr>
              <a:t> </a:t>
            </a:r>
            <a:endParaRPr b="0" lang="en-US" sz="22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Jeff Hill, USAID</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pporting a Science Agenda for African Agriculture</a:t>
            </a:r>
            <a:endParaRPr b="0" lang="en-US" sz="4400" spc="-1" strike="noStrike">
              <a:solidFill>
                <a:srgbClr val="775f55"/>
              </a:solidFill>
              <a:latin typeface="Tw Cen MT"/>
            </a:endParaRPr>
          </a:p>
        </p:txBody>
      </p:sp>
      <p:sp>
        <p:nvSpPr>
          <p:cNvPr id="360"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9EA86-E7BF-4A9C-A724-00B1EABC225B}"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361"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orkshop hosted  by Irish Aid regarding support for agricultural research in Africa.</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Objectives of the workshop -- explore how African country and regional agriculture and food security investment plans to advance CAADP can inform and guide CGIAR,  African country and regional agricultural research programs and identify opportunities to leverage existing relationships to better align around a science agenda for African agriculture.</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761760" y="228600"/>
            <a:ext cx="80038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775f55"/>
                </a:solidFill>
                <a:latin typeface="Tw Cen MT"/>
              </a:rPr>
              <a:t>CAADP Country Progress</a:t>
            </a:r>
            <a:endParaRPr b="0" lang="en-US" sz="5600" spc="-1" strike="noStrike">
              <a:solidFill>
                <a:srgbClr val="775f55"/>
              </a:solidFill>
              <a:latin typeface="Tw Cen MT"/>
            </a:endParaRPr>
          </a:p>
        </p:txBody>
      </p:sp>
      <p:pic>
        <p:nvPicPr>
          <p:cNvPr id="363" name="Picture 8" descr="CAADP Country Progress.JPG"/>
          <p:cNvPicPr/>
          <p:nvPr/>
        </p:nvPicPr>
        <p:blipFill>
          <a:blip r:embed="rId1"/>
          <a:stretch/>
        </p:blipFill>
        <p:spPr>
          <a:xfrm>
            <a:off x="533520" y="1600200"/>
            <a:ext cx="8153280" cy="5187960"/>
          </a:xfrm>
          <a:prstGeom prst="rect">
            <a:avLst/>
          </a:prstGeom>
          <a:ln w="0">
            <a:noFill/>
          </a:ln>
        </p:spPr>
      </p:pic>
      <p:sp>
        <p:nvSpPr>
          <p:cNvPr id="364" name="Slide Number Placeholder 9"/>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F5765-4ABE-40D8-B9C2-6C4EC9DD0369}"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Supporting a Science Agenda for African Agriculture -Meeting Outcomes</a:t>
            </a:r>
            <a:endParaRPr b="0" lang="en-US" sz="4000" spc="-1" strike="noStrike">
              <a:solidFill>
                <a:srgbClr val="775f55"/>
              </a:solidFill>
              <a:latin typeface="Tw Cen MT"/>
            </a:endParaRPr>
          </a:p>
        </p:txBody>
      </p:sp>
      <p:sp>
        <p:nvSpPr>
          <p:cNvPr id="366"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134A2-B36F-4083-93B9-97C086780D1F}"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367"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Joint Steering Committee was  formed with equal representation and membership from the African Partners (AUC, NEPAD and FARA), CGIAR Consortium and Development Partners</a:t>
            </a:r>
            <a:endParaRPr b="0" lang="en-US" sz="20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Five major areas of work underway:</a:t>
            </a:r>
            <a:endParaRPr b="0" lang="en-US" sz="20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Develop a Memorandum of Understanding between the AUC and the CGIAR Consortium</a:t>
            </a:r>
            <a:endParaRPr b="0" lang="en-US" sz="1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Hold a series of scientific module workshops based on agro-ecological zones to develop a technical implementation framework for bridging and aligning the CGIAR Research Portfolios (CRPs) and CAADP National and Regional Investment Plans</a:t>
            </a:r>
            <a:endParaRPr b="0" lang="en-US" sz="1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rganize and implement technical regional workshops on Agriculture Productivity, Research and Extension</a:t>
            </a:r>
            <a:endParaRPr b="0" lang="en-US" sz="1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olidify the major linkages involved in an African Science Agenda for agriculture</a:t>
            </a:r>
            <a:endParaRPr b="0" lang="en-US" sz="1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Develop a framework informed by the above activities to include operational plans for national, regional and continental wide efforts over the short- (2 year), medium- (5 year) and long-term (10 year) commitments, considered essential for the advancement of agricultural research</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2T19:32:11Z</dcterms:created>
  <dc:creator>Dwede Tarpeh</dc:creator>
  <dc:description/>
  <dc:language>en-US</dc:language>
  <cp:lastModifiedBy>PBallantyne</cp:lastModifiedBy>
  <dcterms:modified xsi:type="dcterms:W3CDTF">2012-01-10T14:23:51Z</dcterms:modified>
  <cp:revision>893</cp:revision>
  <dc:subject/>
  <dc:title>Slide 1</dc:title>
</cp:coreProperties>
</file>